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9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16.png" ContentType="image/png"/>
  <Override PartName="/ppt/media/image13.gif" ContentType="image/gif"/>
  <Override PartName="/ppt/media/image31.png" ContentType="image/png"/>
  <Override PartName="/ppt/media/image6.png" ContentType="image/png"/>
  <Override PartName="/ppt/media/image14.wmf" ContentType="image/x-wmf"/>
  <Override PartName="/ppt/media/image33.png" ContentType="image/png"/>
  <Override PartName="/ppt/media/image40.gif" ContentType="image/gif"/>
  <Override PartName="/ppt/media/image38.wmf" ContentType="image/x-wmf"/>
  <Override PartName="/ppt/media/image8.png" ContentType="image/png"/>
  <Override PartName="/ppt/media/image41.wmf" ContentType="image/x-wmf"/>
  <Override PartName="/ppt/media/image39.gif" ContentType="image/gif"/>
  <Override PartName="/ppt/media/image37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5.png" ContentType="image/png"/>
  <Override PartName="/ppt/media/image5.png" ContentType="image/png"/>
  <Override PartName="/ppt/media/image29.jpeg" ContentType="image/jpeg"/>
  <Override PartName="/ppt/media/image15.png" ContentType="image/png"/>
  <Override PartName="/ppt/media/image36.gif" ContentType="image/gif"/>
  <Override PartName="/ppt/media/image32.wmf" ContentType="image/x-wmf"/>
  <Override PartName="/ppt/media/image2.wmf" ContentType="image/x-wmf"/>
  <Override PartName="/ppt/media/image1.wmf" ContentType="image/x-wmf"/>
  <Override PartName="/ppt/media/image3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82C-A553-47E5-9FF7-61DABD5F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EC3-B142-4760-A936-61E7A588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DAB-C322-4DAC-A00C-C22D6544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05F-0060-47E2-846D-36922E0C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5650-BABC-413C-B067-75AD43A8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D712-5EB6-453B-B279-E42CBA52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7765-BF2C-4ADD-9C81-6692530E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2A9B-5639-4544-BE63-4E91D39C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A060-19CC-41EF-9C67-931B9BF1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7831-B28C-42B9-929E-8C0569A1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639B-5C7A-4057-80FF-555CDD72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734A-6B1C-44AE-919C-EA64FF64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C278-D23E-45FC-BD39-BA0828C7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31D6-17BB-4DAA-AE31-EDAC71C8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B37E-B108-49FA-B1C6-0A0514B4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516B-EBD0-4A43-BA9A-BC2478DE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8DFD-5179-45A8-9D6C-514E71B7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7F11-6741-498D-AB56-9856D0C2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DD3-7FDC-4D3B-B290-F364910E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E8C-4487-426B-B9C5-56C22615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431-D873-44C8-BB7F-F1DC9C3A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C949-3819-49F3-9725-0961CEE8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F20-8E0C-4F9B-9881-A4DA4EFD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B89-A799-416C-8C6C-792588FE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800"/>
            </a:gs>
            <a:gs pos="100000">
              <a:srgbClr val="cc9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B870-5BCE-4B86-ACD9-56AEE7C307B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800"/>
            </a:gs>
            <a:gs pos="100000">
              <a:srgbClr val="cc9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0431-5AF7-4B42-B8FD-8B3C0AE345D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897440" cy="6356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580000" y="2924280"/>
            <a:ext cx="1830600" cy="1436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84360" y="1052640"/>
            <a:ext cx="3600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Monotype Corsiva"/>
              </a:rPr>
              <a:t>И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Monotype Corsiva"/>
              </a:rPr>
              <a:t>истори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Monotype Corsiva"/>
              </a:rPr>
              <a:t>дроб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b800"/>
            </a:gs>
            <a:gs pos="100000">
              <a:srgbClr val="cc9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-252360" y="2349360"/>
            <a:ext cx="3174840" cy="3573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164360" y="404640"/>
            <a:ext cx="1079640" cy="914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124000" y="765000"/>
            <a:ext cx="1568520" cy="1872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492360" y="1557360"/>
            <a:ext cx="56516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200"/>
                </a:solidFill>
                <a:latin typeface="Monotype Corsiva"/>
              </a:rPr>
              <a:t>омпьютерный  слайд-фильм </a:t>
            </a: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создан  для использования на уроках математ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ученицей </a:t>
            </a:r>
            <a:r>
              <a:rPr b="1" lang="en-US" sz="3600" spc="-1" strike="noStrike">
                <a:solidFill>
                  <a:srgbClr val="ffcc00"/>
                </a:solidFill>
                <a:latin typeface="Monotype Corsiva"/>
              </a:rPr>
              <a:t>6</a:t>
            </a: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-В класса</a:t>
            </a:r>
            <a:r>
              <a:rPr b="1" lang="ru-RU" sz="3600" spc="-1" strike="noStrike">
                <a:solidFill>
                  <a:srgbClr val="00b200"/>
                </a:solidFill>
                <a:latin typeface="Monotype Corsiva"/>
              </a:rPr>
              <a:t>  Агафоновой Дарьей.          </a:t>
            </a:r>
            <a:r>
              <a:rPr b="1" lang="ru-RU" sz="3600" spc="-1" strike="noStrike">
                <a:solidFill>
                  <a:srgbClr val="ffcc00"/>
                </a:solidFill>
                <a:latin typeface="Monotype Corsiva"/>
              </a:rPr>
              <a:t>Руководитель: Челянова Н.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339933"/>
                </a:solidFill>
                <a:latin typeface="Monotype Corsiva"/>
              </a:rPr>
              <a:t>Апрель 200</a:t>
            </a:r>
            <a:r>
              <a:rPr b="1" lang="en-US" sz="3600" spc="-1" strike="noStrike">
                <a:solidFill>
                  <a:srgbClr val="339933"/>
                </a:solidFill>
                <a:latin typeface="Monotype Corsiva"/>
              </a:rPr>
              <a:t>8</a:t>
            </a:r>
            <a:r>
              <a:rPr b="1" lang="ru-RU" sz="3600" spc="-1" strike="noStrike">
                <a:solidFill>
                  <a:srgbClr val="339933"/>
                </a:solidFill>
                <a:latin typeface="Monotype Corsiva"/>
              </a:rPr>
              <a:t> г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rcRect l="10132" t="0" r="22397" b="4642"/>
          <a:stretch/>
        </p:blipFill>
        <p:spPr>
          <a:xfrm>
            <a:off x="7451640" y="2781360"/>
            <a:ext cx="1440000" cy="3879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451640" y="765000"/>
            <a:ext cx="432000" cy="793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1916280"/>
            <a:ext cx="795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Посмотрите, как  изображали дроби в Древнем Егип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rcRect l="8866" t="0" r="3852" b="14059"/>
          <a:stretch/>
        </p:blipFill>
        <p:spPr>
          <a:xfrm>
            <a:off x="900000" y="249228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rcRect l="16667" t="30670" r="11152" b="23110"/>
          <a:stretch/>
        </p:blipFill>
        <p:spPr>
          <a:xfrm>
            <a:off x="2340000" y="2565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rcRect l="15799" t="29124" r="10595" b="19759"/>
          <a:stretch/>
        </p:blipFill>
        <p:spPr>
          <a:xfrm>
            <a:off x="3708360" y="256536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rcRect l="16667" t="30670" r="16791" b="23110"/>
          <a:stretch/>
        </p:blipFill>
        <p:spPr>
          <a:xfrm>
            <a:off x="5219640" y="2565360"/>
            <a:ext cx="863640" cy="433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908000" y="30686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          0 0      00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3716280"/>
            <a:ext cx="67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В Древнем Китае вместо черты ставили точ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3203640" y="4437000"/>
            <a:ext cx="550800" cy="1157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635280" y="47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4067280" y="4508640"/>
            <a:ext cx="506160" cy="1092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5796000" y="5084640"/>
            <a:ext cx="474480" cy="144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76360" y="57340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Индийцы записывали так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83664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Первой дробью, наверное, была дроб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0" y="115920"/>
            <a:ext cx="150804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7aa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71640" y="476280"/>
            <a:ext cx="7920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осмотрите, как записывалась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есятичная дробь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5162" t="5436" r="9210" b="17815"/>
          <a:stretch/>
        </p:blipFill>
        <p:spPr>
          <a:xfrm>
            <a:off x="1547640" y="2924280"/>
            <a:ext cx="5977080" cy="2017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308720" y="4221000"/>
            <a:ext cx="1697040" cy="2292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7164360" y="1484280"/>
            <a:ext cx="100980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0,1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92360" y="4581360"/>
            <a:ext cx="5688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роби на Руси называли ДОЛ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зже ЛОМАНН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 старых руководствах наход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ледующие названия дроб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15920"/>
            <a:ext cx="4679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ff0000"/>
                </a:solidFill>
                <a:latin typeface="Comic Sans MS"/>
              </a:rPr>
              <a:t>Д</a:t>
            </a:r>
            <a:r>
              <a:rPr b="1" lang="en-US" sz="10500" spc="-1" strike="noStrike">
                <a:solidFill>
                  <a:srgbClr val="0099ff"/>
                </a:solidFill>
                <a:latin typeface="Comic Sans MS"/>
              </a:rPr>
              <a:t>р</a:t>
            </a:r>
            <a:r>
              <a:rPr b="1" lang="en-US" sz="10500" spc="-1" strike="noStrike">
                <a:solidFill>
                  <a:srgbClr val="ffb800"/>
                </a:solidFill>
                <a:latin typeface="Comic Sans MS"/>
              </a:rPr>
              <a:t>о</a:t>
            </a:r>
            <a:r>
              <a:rPr b="1" lang="en-US" sz="10500" spc="-1" strike="noStrike">
                <a:solidFill>
                  <a:srgbClr val="00b200"/>
                </a:solidFill>
                <a:latin typeface="Comic Sans MS"/>
              </a:rPr>
              <a:t>б</a:t>
            </a:r>
            <a:r>
              <a:rPr b="1" lang="en-US" sz="10500" spc="-1" strike="noStrike">
                <a:solidFill>
                  <a:srgbClr val="703dff"/>
                </a:solidFill>
                <a:latin typeface="Comic Sans MS"/>
              </a:rPr>
              <a:t>и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1484280"/>
            <a:ext cx="2519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ff3399"/>
                </a:solidFill>
                <a:latin typeface="Comic Sans MS"/>
              </a:rPr>
              <a:t>н</a:t>
            </a:r>
            <a:r>
              <a:rPr b="1" lang="en-US" sz="10500" spc="-1" strike="noStrike">
                <a:solidFill>
                  <a:srgbClr val="9900cc"/>
                </a:solidFill>
                <a:latin typeface="Comic Sans MS"/>
              </a:rPr>
              <a:t>а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2492280"/>
            <a:ext cx="56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66ff"/>
                </a:solidFill>
                <a:latin typeface="Monotype Corsiva"/>
              </a:rPr>
              <a:t>уси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1428840" cy="1238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172404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3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3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3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11280" y="54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Половина, пол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162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-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565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-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3573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f66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ef66"/>
                </a:solidFill>
                <a:latin typeface="Arial"/>
              </a:rPr>
              <a:t>Пя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5600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f66"/>
                </a:solidFill>
                <a:latin typeface="Arial"/>
              </a:rPr>
              <a:t>-Пол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1557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-Седь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87640" y="2492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f66"/>
                </a:solidFill>
                <a:latin typeface="Arial"/>
              </a:rPr>
              <a:t>-Пол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16360" y="36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Arial"/>
              </a:rPr>
              <a:t>- Деся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6000" y="141300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-Пол-пол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35640" y="2421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703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Arial"/>
              </a:rPr>
              <a:t>Пол-пол-треть (мал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08720" y="3573360"/>
            <a:ext cx="2627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5050"/>
                </a:solidFill>
                <a:latin typeface="Monotype Corsiva"/>
              </a:rPr>
              <a:t>-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Пол-пол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4581360"/>
            <a:ext cx="352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ff66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Пол-полчеть</a:t>
            </a: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(Мал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46040" cy="79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14360" cy="858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859280" y="1197000"/>
            <a:ext cx="595440" cy="878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900000" y="4437000"/>
            <a:ext cx="1781280" cy="2160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995640" y="4437000"/>
            <a:ext cx="584280" cy="863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179280" y="2421000"/>
            <a:ext cx="669960" cy="1004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108000" y="3357720"/>
            <a:ext cx="577800" cy="993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3924360" y="260280"/>
            <a:ext cx="50148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2411280" y="1341360"/>
            <a:ext cx="615960" cy="1028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0"/>
          <a:stretch/>
        </p:blipFill>
        <p:spPr>
          <a:xfrm>
            <a:off x="2556000" y="2349360"/>
            <a:ext cx="426960" cy="936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1"/>
          <a:stretch/>
        </p:blipFill>
        <p:spPr>
          <a:xfrm>
            <a:off x="2411280" y="3357720"/>
            <a:ext cx="646200" cy="1074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2"/>
          <a:stretch/>
        </p:blipFill>
        <p:spPr>
          <a:xfrm>
            <a:off x="4932360" y="3500280"/>
            <a:ext cx="749160" cy="852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3"/>
          <a:stretch/>
        </p:blipFill>
        <p:spPr>
          <a:xfrm>
            <a:off x="4859280" y="2133720"/>
            <a:ext cx="587520" cy="1106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4"/>
          <a:stretch/>
        </p:blipFill>
        <p:spPr>
          <a:xfrm>
            <a:off x="7093080" y="18900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66"/>
            </a:gs>
            <a:gs pos="100000">
              <a:srgbClr val="fef7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116000" y="692280"/>
            <a:ext cx="5688000" cy="11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И всё же, что такое дробь???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rcRect l="0" t="126" r="7253" b="0"/>
          <a:stretch/>
        </p:blipFill>
        <p:spPr>
          <a:xfrm>
            <a:off x="6084720" y="2349360"/>
            <a:ext cx="2409840" cy="3934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340000" y="2060640"/>
            <a:ext cx="331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ДРОБЬ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, в арифметике — число составленное из целого числа долей единицы. Дробь выражается отношением двух целых чисел 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m/n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, где 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 — знаменатель дроби — показывает, на сколько долей разделена единица, а 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 — числитель дроби — показывает, сколько таких долей содержится в дроб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66"/>
            </a:gs>
            <a:gs pos="100000">
              <a:srgbClr val="99e9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763640" y="476280"/>
            <a:ext cx="651528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обях правильных и неправильных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2556000" y="2349360"/>
            <a:ext cx="324000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9362"/>
                </a:solidFill>
                <a:latin typeface="Comic Sans MS"/>
              </a:rPr>
              <a:t>Если числитель дроби меньше знаменателя, то дробь называется правильной (например 5/7), если больше или равен, — неправильной (например 7/4).</a:t>
            </a:r>
            <a:r>
              <a:rPr b="0" lang="en-US" sz="3200" spc="-1" strike="noStrike">
                <a:solidFill>
                  <a:srgbClr val="319362"/>
                </a:solidFill>
                <a:latin typeface="CG 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403280" cy="2052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651640" y="2565360"/>
            <a:ext cx="2814480" cy="416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627280" y="476280"/>
            <a:ext cx="454032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сятичных дробя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1700280"/>
            <a:ext cx="71294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К десятичным дробям математики пришли в разные времена в Азии и Евро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Целую часть от дробной отделяли в Китае особым знаком «дянь» (точка). Большое внимание дробям уделял средне-азиатский учёный ал-Киши. В Европе дроби были «открыты» нидерландским математиком и инжене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С. Стев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В России впервые изложил учение о десятичных дробях Леонтий Магницкий в своей «Арифметик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0" y="3716280"/>
            <a:ext cx="1795320" cy="18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81,-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195640" y="333360"/>
            <a:ext cx="5903640" cy="23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b800"/>
                    </a:gs>
                    <a:gs pos="50000">
                      <a:srgbClr val="00ff00"/>
                    </a:gs>
                    <a:gs pos="100000">
                      <a:srgbClr val="ffb800"/>
                    </a:gs>
                  </a:gsLst>
                  <a:lin ang="13500000"/>
                </a:gradFill>
                <a:latin typeface="Comic Sans MS"/>
              </a:rPr>
              <a:t>тепени дробей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b800"/>
                  </a:gs>
                  <a:gs pos="50000">
                    <a:srgbClr val="00ff00"/>
                  </a:gs>
                  <a:gs pos="100000">
                    <a:srgbClr val="ffb800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940360" y="2637000"/>
            <a:ext cx="2664000" cy="3897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50920" y="2322360"/>
            <a:ext cx="40323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mic Sans MS"/>
              </a:rPr>
              <a:t>Дробь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, знаменатель которой может быть записан числами  10, 100, 1000 и т. д. принято  называть десятичной; для ее записи выписывают слева направо количество целых единиц, а затем, после запятой, — десятых, сотых и т. д. долей, заключающихся в дроб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730600" cy="22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2:19:05Z</dcterms:created>
  <dc:creator>School</dc:creator>
  <dc:description/>
  <dc:language>en-US</dc:language>
  <cp:lastModifiedBy>Учитель</cp:lastModifiedBy>
  <dcterms:modified xsi:type="dcterms:W3CDTF">2009-01-14T10:13:10Z</dcterms:modified>
  <cp:revision>30</cp:revision>
  <dc:subject/>
  <dc:title>Слайд 1</dc:title>
</cp:coreProperties>
</file>